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EEA-22C8-4C9F-908A-038BAA26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33F-AD16-423C-B1A9-2DD825E4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EE6-860A-4701-9FB2-1D50077F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8BB-89F2-425D-81B4-C8994713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EB8-ED61-470D-A2DD-C91A6C48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C0C-5693-4527-8898-8DB119C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900-C25D-4FAC-863A-E3886154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599-D259-479E-8980-128912FE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7AD-5BA7-461B-8476-42ED16ED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77C-53FD-4392-9E95-62ED0329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315-6714-43FD-90E1-C66EAAD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2EC-450B-49F9-AFA0-624A779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2623-162A-4628-9385-6B128C7C1D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4720" y="763200"/>
            <a:ext cx="7199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Experiencia de transferencia tecnológica y desarrollo rural junto a  “pequeños productores” de Juju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832360" y="4083120"/>
            <a:ext cx="3024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Centro de Estudio para el Desarrollo de la Agricultura Familiar – Facultad de Ciencias Agr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Universidad Nacional de Juju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867280" y="36450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M.D. Ing. Agr. Mario C. Bo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5 Imagen" descr="Image14.jpg"/>
          <p:cNvPicPr/>
          <p:nvPr/>
        </p:nvPicPr>
        <p:blipFill>
          <a:blip r:embed="rId1"/>
          <a:stretch/>
        </p:blipFill>
        <p:spPr>
          <a:xfrm>
            <a:off x="71280" y="2828880"/>
            <a:ext cx="5715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Fair tr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Permite la inversión social: fondo de ti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SUNP0008"/>
          <p:cNvPicPr/>
          <p:nvPr/>
        </p:nvPicPr>
        <p:blipFill>
          <a:blip r:embed="rId1"/>
          <a:stretch/>
        </p:blipFill>
        <p:spPr>
          <a:xfrm>
            <a:off x="684360" y="1006560"/>
            <a:ext cx="7802280" cy="5851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763640" y="404640"/>
            <a:ext cx="55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Exportación de naranja valencia a Europa 2004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7250040" y="6000840"/>
            <a:ext cx="13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CEDAF – F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U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19920" y="620640"/>
            <a:ext cx="62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blemas surgidos en el 2006 para exportación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353040" y="3500280"/>
            <a:ext cx="33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signación de riego d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354480" y="1341360"/>
            <a:ext cx="53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Tratamiento desinfección en  empaque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17760" y="2565360"/>
            <a:ext cx="51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blemas relacionada a la estructura 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884880" y="107316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cciones actuales desarroll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959120" y="2066760"/>
            <a:ext cx="62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Implementación de un sistema de incorporación de riego por goteo en forma cooper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57960" y="3592440"/>
            <a:ext cx="46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Desarrollo de un mercado local diferenc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195640" y="4437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Venta de bolsones de frutas y hortali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195640" y="50068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Venta de dulces artes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ermite establecer términos de comercialización con mayor ecoefi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826920" y="6922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Venta de bolsones de frutas y hortali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11280" y="285264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68896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Nuestra participación pas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37160" y="1000080"/>
            <a:ext cx="58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2002/2004 trabajo orientado al capital social y sim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038320" y="1522440"/>
            <a:ext cx="66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Trabajo interdisciplinario e interinstitucional (FAO, PSA y UNJ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449160" y="1944720"/>
            <a:ext cx="520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bordaje de las problemáticas  simbó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fianzamiento de la  Re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ducción para mercados altern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Transferencia de tecnología productiva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rcRect l="5347" t="12440" r="5503" b="12986"/>
          <a:stretch/>
        </p:blipFill>
        <p:spPr>
          <a:xfrm>
            <a:off x="2571840" y="4000680"/>
            <a:ext cx="37861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971640" y="1341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2005/2008  trabajo orientado al desarrollo de tecnología alternativas Agroecológica  de apoy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108880" y="2441520"/>
            <a:ext cx="51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Trabajo interdisciplinario (CEDAF, FCA, INBIA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884120" y="2944800"/>
            <a:ext cx="17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C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Bioextrac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Biofertiliz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Nuestra participación actu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6 Imagen" descr="SUNP0002.JPG"/>
          <p:cNvPicPr/>
          <p:nvPr/>
        </p:nvPicPr>
        <p:blipFill>
          <a:blip r:embed="rId1"/>
          <a:stretch/>
        </p:blipFill>
        <p:spPr>
          <a:xfrm>
            <a:off x="5238720" y="392904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123" name="7 Imagen" descr="SUNP0025.JPG"/>
          <p:cNvPicPr/>
          <p:nvPr/>
        </p:nvPicPr>
        <p:blipFill>
          <a:blip r:embed="rId2"/>
          <a:stretch/>
        </p:blipFill>
        <p:spPr>
          <a:xfrm>
            <a:off x="0" y="401796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3 Marcador de contenido" descr="S1010033.JPG"/>
          <p:cNvPicPr/>
          <p:nvPr/>
        </p:nvPicPr>
        <p:blipFill>
          <a:blip r:embed="rId1"/>
          <a:stretch/>
        </p:blipFill>
        <p:spPr>
          <a:xfrm>
            <a:off x="2308320" y="1035000"/>
            <a:ext cx="45259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INSTITUCIONES QUE ACOMPAÑARO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CEDAF FCA U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PSA SAGP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INSTITUCIONES QUE APOYARON PARCIALM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F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FUNDACION A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EQUIPO TECNICO PARTICIP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CARÁCTER INTERDISCUPLI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PSICOLOGO SOCIAL (FA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ABOGADO ESP RRNN, DERECHO COMUNITARIO (FA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AGRONOMO  (UNJu – P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MICROBIOLOGO (UNJ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ESPECIALISTA EN DESARROLLO (UNJu-P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TECNICO APICULTOR (P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EJES DE A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0000"/>
                </a:solidFill>
                <a:latin typeface="Arial"/>
              </a:rPr>
              <a:t>PROMOCION  Y FACILIATCION DEL DESARROLLO ORGANIZA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0000"/>
                </a:solidFill>
                <a:latin typeface="Arial"/>
              </a:rPr>
              <a:t>DIAGNOSTICO  DE LOS SISTEMAS PRODUCTIVOS, SEGÚN MERCADOS, DEPENDENCIA TECNOLOGICA, COSTOS, TOXICOLOGICAS Y ECOLO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0000"/>
                </a:solidFill>
                <a:latin typeface="Arial"/>
              </a:rPr>
              <a:t>INCORPORACION DE TECNOLOGIA PRODUCTIVAS ALTERNATIVAS A PARTIR DE LOS DIAGNO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0000"/>
                </a:solidFill>
                <a:latin typeface="Arial"/>
              </a:rPr>
              <a:t>ABORDAJES DE MERCADOS ALTERN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0000"/>
                </a:solidFill>
                <a:latin typeface="Arial"/>
              </a:rPr>
              <a:t>TRANSFERENCIA DE 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ESTRATEGIAS EN LA INTERVEN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TRABAJO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LIMITACIONES Y PERMICIONES SIMBO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CAPACIDADES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ROL FACILITA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Arial"/>
              </a:rPr>
              <a:t>PASIVIDAD DE LAS PROPUESTAS TECNOLOGICAS, EVITAR ACCION COLONIZADORA (INTERCULTURAL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9640" y="74520"/>
            <a:ext cx="19814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PEQUEÑOS  PRODUCTORES DE ZONA DE YU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744480" y="1341360"/>
            <a:ext cx="1882800" cy="7038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entury Gothic"/>
                <a:ea typeface="Arial"/>
              </a:rPr>
              <a:t>CAMPO COLO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551640" y="1268280"/>
            <a:ext cx="2557440" cy="7038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entury Gothic"/>
                <a:ea typeface="Arial"/>
              </a:rPr>
              <a:t>SOCIOS COMERCI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48360" y="361800"/>
            <a:ext cx="2837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PRODUCTORES MEDI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348000" y="1341360"/>
            <a:ext cx="2502000" cy="1008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entury Gothic"/>
                <a:ea typeface="Arial"/>
              </a:rPr>
              <a:t>COMUNIDAD ABORI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entury Gothic"/>
                <a:ea typeface="Arial"/>
              </a:rPr>
              <a:t>DE QUITA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002040" y="146160"/>
            <a:ext cx="2759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PEQUEÑOS PRODUCTORES DE QUEBRADA DE HUMAHUA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984760" y="2735280"/>
            <a:ext cx="3263760" cy="3988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entury Gothic"/>
                <a:ea typeface="Arial"/>
              </a:rPr>
              <a:t>COOPERATIVA AGR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0" y="3203640"/>
            <a:ext cx="22683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Trabajos en COOPERACION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(Universidad Nacional de Juju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Programa Social Agropecuario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575080" y="4581360"/>
            <a:ext cx="193176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Conveni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comercializ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843280" y="3486240"/>
            <a:ext cx="338436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Productos orgá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Comercio ju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568600" y="5618160"/>
            <a:ext cx="204768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Mercados de Bs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Ex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724280" y="4581360"/>
            <a:ext cx="195912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Mercado re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Mercado Loc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880680" y="3170160"/>
            <a:ext cx="1688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Cert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Century Gothic"/>
                <a:ea typeface="Arial"/>
              </a:rPr>
              <a:t>Prod. Orgá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7596360" y="836640"/>
            <a:ext cx="0" cy="2286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4572000" y="1039680"/>
            <a:ext cx="0" cy="2286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1332000" y="981000"/>
            <a:ext cx="0" cy="2286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4572000" y="2421000"/>
            <a:ext cx="0" cy="2286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9"/>
          <p:cNvSpPr/>
          <p:nvPr/>
        </p:nvSpPr>
        <p:spPr>
          <a:xfrm flipH="1">
            <a:off x="6072120" y="2060640"/>
            <a:ext cx="1524240" cy="3045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1403280" y="2133720"/>
            <a:ext cx="1524240" cy="2286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1"/>
          <p:cNvSpPr/>
          <p:nvPr/>
        </p:nvSpPr>
        <p:spPr>
          <a:xfrm flipH="1" flipV="1">
            <a:off x="6173640" y="2916000"/>
            <a:ext cx="990720" cy="1522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 flipV="1">
            <a:off x="1476360" y="2852640"/>
            <a:ext cx="1523880" cy="152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"/>
          <p:cNvSpPr/>
          <p:nvPr/>
        </p:nvSpPr>
        <p:spPr>
          <a:xfrm>
            <a:off x="3581280" y="4280040"/>
            <a:ext cx="0" cy="2286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4"/>
          <p:cNvSpPr/>
          <p:nvPr/>
        </p:nvSpPr>
        <p:spPr>
          <a:xfrm>
            <a:off x="5486400" y="4280040"/>
            <a:ext cx="0" cy="2286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"/>
          <p:cNvSpPr/>
          <p:nvPr/>
        </p:nvSpPr>
        <p:spPr>
          <a:xfrm>
            <a:off x="3657600" y="5288040"/>
            <a:ext cx="0" cy="2286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"/>
          <p:cNvSpPr/>
          <p:nvPr/>
        </p:nvSpPr>
        <p:spPr>
          <a:xfrm>
            <a:off x="2833560" y="1585800"/>
            <a:ext cx="216000" cy="0"/>
          </a:xfrm>
          <a:prstGeom prst="line">
            <a:avLst/>
          </a:prstGeom>
          <a:ln cap="sq" w="1260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7"/>
          <p:cNvSpPr/>
          <p:nvPr/>
        </p:nvSpPr>
        <p:spPr>
          <a:xfrm flipH="1">
            <a:off x="2771640" y="1700280"/>
            <a:ext cx="216000" cy="0"/>
          </a:xfrm>
          <a:prstGeom prst="line">
            <a:avLst/>
          </a:prstGeom>
          <a:ln cap="sq" w="1260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250040" y="6000840"/>
            <a:ext cx="13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CEDAF – F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U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Propuesta Agros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rcRect l="6618" t="3826" r="6618" b="7086"/>
          <a:stretch/>
        </p:blipFill>
        <p:spPr>
          <a:xfrm>
            <a:off x="826920" y="1000080"/>
            <a:ext cx="7812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Merca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1600" y="236844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Mercado 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812520" y="352116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Mercados diferenc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909000" y="3068640"/>
            <a:ext cx="2664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Mercados diferenci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216680" y="2486160"/>
            <a:ext cx="12214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Fair t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240080" y="3933720"/>
            <a:ext cx="1054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orgá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6380280" y="1844640"/>
            <a:ext cx="1358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expor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517800" y="4941720"/>
            <a:ext cx="648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451560" y="3284640"/>
            <a:ext cx="1358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expor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 flipV="1">
            <a:off x="3708360" y="2852640"/>
            <a:ext cx="432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3708360" y="3502080"/>
            <a:ext cx="43200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435640" y="2133360"/>
            <a:ext cx="57636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5364000" y="3499920"/>
            <a:ext cx="93672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5364000" y="4292640"/>
            <a:ext cx="100836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21:33:28Z</dcterms:created>
  <dc:creator>mario</dc:creator>
  <dc:description/>
  <dc:language>en-US</dc:language>
  <cp:lastModifiedBy>User</cp:lastModifiedBy>
  <dcterms:modified xsi:type="dcterms:W3CDTF">2008-05-29T00:16:17Z</dcterms:modified>
  <cp:revision>58</cp:revision>
  <dc:subject/>
  <dc:title>Mercados diferenciados como alternativa de desarrollo rural para  “pequeños productores”.  Una Experiencia de producción y comercialización de frutas y hortalizas orgánicas junto a productores de  Jujuy.</dc:title>
</cp:coreProperties>
</file>